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115F4-C0B6-4ACA-B608-F8D11782F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3C3A-D696-46C8-93D0-80AAACF53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578B4-FE99-4B0C-A614-BE3C9E667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9F99E-98E4-4186-893B-CB0FF4979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F790-2C02-4F99-92C9-E2FA9C982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7C76-476F-4B94-B219-B4272A04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C4B9-DEA5-46EA-9E0C-A6A2A578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D34B9-39B1-4DC1-B5AE-81744C73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8B820-36EE-460B-BBDE-8ECA6A39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DFE8-50F2-4E0E-9C90-8983CAFA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B396-9AF3-4543-A034-56C004F8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EDF3-D304-43F6-95A6-27F3E6ECB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8796-10DA-4FC5-8503-191E93D293F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72400" cy="359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Climatic And Environmental Problem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cid Rain: Caus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lphur dioxides and nitrogen oxides emitted from power stations are carried by the wi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either fall to earth as dry deposits or are converted to acids and fall mixed with water droplets as acid 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lution from Britain and other areas of Europe has caused huge amounts of damage in Scandinavian and Eastern European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cid Rain: Effec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kes and rivers have been contaminated killing fish and plant lif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also end up being drunk by huma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sts have been destroyed, with trees losing all their needles due to alack of nutrients and resistance to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ils have become more acidic, making them poorer for farming purpo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s can also be affected by the chemicals being dropped o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lobal Warming: Cause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lease of greenhouse gases into the atmosphe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ost common of these, making up 56% of the contributory gases, is carbon dioxi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rbon dioxide</a:t>
            </a:r>
            <a:r>
              <a:rPr b="0" lang="en-US" sz="2200" spc="-1" strike="noStrike">
                <a:solidFill>
                  <a:srgbClr val="000000"/>
                </a:solidFill>
                <a:latin typeface="Calibri"/>
              </a:rPr>
              <a:t> is produced by power stations, vehicles, even animals breath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ees and plants can convert it back to oxygen, however large scale deforestation of areas such as the Amazon rainforest has led to an increased amount of the gas in the atmosphe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gases such as chlorofluorocarbons (23%), methane (14%) and nitrous oxides (7%) also contribute to the layer of pollutants that is encircling the worl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gases allow the radiation from the sun to enter the atmosphere but then do not allow enough of it to leave, causing the atmosphere to heat u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lobal Warming: Effect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creasing temperature of the atmosphere could have some devastating results for the Earth.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ar ice caps and glaciers around the world will melt (they already are showing signs of doing this), creating more water.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ld flood huge areas of coastline throughout the world.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low-lying islands could disappear altogether and the map of the world would be drastically alter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climatic patterns may be altered, meaning previously warm areas could experience bitterly cold winters, and other previously cold areas may become uncommonly warm.</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been suggested that Britain might actually become colder as the Gulf Stream may move away from our sh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greenscroll.org/images/global-warming.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Ozone Hole: Cause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zone is the gas in the atmosphere that prevents harmful ultra-violet rays from affecting u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are the rays that will cause you to get a sun tan, but could also burn you or cause skin cancer in later lif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les in the ozone layer have been found over both Pol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y grow and shrink throughout the year, depending on the season, but are in general increasing in siz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hemical responsible for the destruction of the ozone is </a:t>
            </a:r>
            <a:r>
              <a:rPr b="1" lang="en-US" sz="2500" spc="-1" strike="noStrike">
                <a:solidFill>
                  <a:srgbClr val="000000"/>
                </a:solidFill>
                <a:latin typeface="Calibri"/>
              </a:rPr>
              <a:t>chlorine</a:t>
            </a:r>
            <a:r>
              <a:rPr b="0" lang="en-US" sz="2500" spc="-1" strike="noStrike">
                <a:solidFill>
                  <a:srgbClr val="000000"/>
                </a:solidFill>
                <a:latin typeface="Calibri"/>
              </a:rPr>
              <a:t>, which is released into the atmosphere as </a:t>
            </a:r>
            <a:r>
              <a:rPr b="1" lang="en-US" sz="2500" spc="-1" strike="noStrike">
                <a:solidFill>
                  <a:srgbClr val="000000"/>
                </a:solidFill>
                <a:latin typeface="Calibri"/>
              </a:rPr>
              <a:t>chlorofluorocarbon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commonly used in aerosols and the cooling system of fridg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Ozone Hole: Effect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effects to humans are the increased danger of skin cancer, and a possible reduction in immunity from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ountries most in danger are Australia and New Zealand, who have two of the highest rates of skin cancer in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troduced massive advertising campaigns to try to get people to be careful in the su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03:21Z</dcterms:created>
  <dc:creator>Dell_02</dc:creator>
  <dc:description/>
  <dc:language>en-US</dc:language>
  <cp:lastModifiedBy>Dell_02</cp:lastModifiedBy>
  <dcterms:modified xsi:type="dcterms:W3CDTF">2011-01-28T00:21:21Z</dcterms:modified>
  <cp:revision>2</cp:revision>
  <dc:subject/>
  <dc:title>Climatic And Environmental Problems</dc:title>
</cp:coreProperties>
</file>